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C6-6C28-4207-A24F-0553FA10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AFF-55B4-4D70-A1B3-F5C78FF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710-FB68-4FCC-B852-D98016FC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553-8719-4336-B3BC-432B2B3C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550F-CECE-4A6D-B2A6-F7FE1FF8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F8EA-9C62-4FD8-AD9B-FAE5341C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5CD5-148D-4359-86C5-A289125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AE5-C5E4-4A1E-A8B2-C31EF566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3807-DCFB-491C-AD9A-AE3EF6B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892D-CC93-4415-8DC3-E83E929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4100-5F9F-496C-BA95-DED0E7D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F8B-7C76-490D-9B68-1F101023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A15-6ABB-4742-9DF3-8A6D771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D54D-60AA-43C7-BFA3-A1C0841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2E0E-3193-464F-932B-A265398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031F-6154-4C1A-A849-91C02392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F94-9380-48C2-8799-7DC03A6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BE2-101F-4C8A-A9FB-10BC5B48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09E-9565-4721-8B11-786BEA73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DB0-5739-47B3-8738-E8B0324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880-51EC-43A3-BB9C-C8D0B6D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EFD-CCEC-46E3-9ECC-942D5F2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A9C-189D-49F9-908B-1294A41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2CC-553D-47F5-A6E4-A0D944D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4358-A4C1-424A-A319-651261F5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FE0-807D-4312-B9BB-05BE3B01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TURMOIL IN ITALY EASED BY MID-15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5410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itical history of Italy in the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ies was one of constant turm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-states were threatened by foreign invaders, internal conspiracies, and popular re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mid-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three trends emerg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Greater governmental consolidation an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Balance of power between competing city-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The rise of signorial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30840" y="1828800"/>
            <a:ext cx="3171960" cy="3733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150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sco Sforza seized power in Milan in the mid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457560" y="15228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RT OF DIPLOMA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eaders of the Italian city-states were the first to perfect the art of diplo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warfare called for constant alliances and by the end of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, most city-states had ambassa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43434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RCENARY SOLD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342864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ian city-states hired their soldiers as contra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rcenary armies, whose leaders we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dotti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from the name of their contract), were expensive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276720" cy="5029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2311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END OF ITALIAN HEGEMONY, 1450-15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4953240" cy="276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ite significant cultural and economic accomplishments during the Renaissance, Italy faced increasing political and military un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opeful sign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Peace of Lod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ct signed in 1454 between the 5 major city-states kept internal peace on the peninsula for 4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invasion was another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TOMANS THREATEN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remarkable military leader of the age was the Ottoman prince, Mehmed II (1451-14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med II conquered Constantinople (1453) and Athens (1456) and threatened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ice, however, was most directly affected by the Ottoma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343400" cy="392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5638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453 Siege of Constantinople (painted 149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9260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52880" y="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-FIGHTING PREVENTS UNIFIED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75248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talian city-states may have been able to repel the eastern threat had they been able to unite in oppos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s of Italy (1494-1529) prevented any unified front against foreign inva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s of Italy began when Naples, Florence, and The Papal States united against Mi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an sought help from the F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rmy of French and Swiss mercenaries, led by Charles VIII of French, invaded in 149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ENCH SWEPT TO VICTORY I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year, Charles VIII had defeated Florence, Papal States, and Na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, Venice and the pope called on King Ferdinand of Aragon and the Holy Roman Emperor to help defeat the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al blow to Italian hegemony was the sack of Rome in 1527 by German merce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095480"/>
            <a:ext cx="4267080" cy="2693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4064040"/>
            <a:ext cx="4267080" cy="2793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67080" y="3733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 from the sack of Rome, 15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LUDING THOUGHTS ON THE RENA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naissance was an era of magnificent Italian artistic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ing heavily from the classical era, the Renaissance created lasting legacies with the ideas of Humanism and practical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lian politics in reality was not as cohesive as its culture, as a lack of unity ultimately led to its de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8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UMANIST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629400" cy="3664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ists brought the study of liberal arts into the service of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lla’s philological studies had a huge impact on diplo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avelli’s work created modern politic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ists created a demand for learning that led to a growth in universities, the spread of literacy, and the rise of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600200"/>
            <a:ext cx="243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Printing Press Invented by Johannes Gutenberg around 1450--The printing press made the mass publication and circulation of literatu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TALY THE CENTER OF POWER IN THE 15TH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ograp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aly was the center for exchange of goods between the East and the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rt cities of Genoa and Venice became great maritime powers (spices, miner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d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an specialized in metal c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ence was a financial center and traded in fine luxury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-states were self-sufficient agricultur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1843200"/>
            <a:ext cx="4267080" cy="448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54100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s were critical to Italian domination of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POLITICS OF THE ITALIAN CITY-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sence of a central authority in Italy, resulting from the collapse of the HRE and the papal schism, meant guilds and confraternites to transform themselves into self-governing city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27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IVE PO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ir were dozens of Italian city-states, five emerged as dominate powers on the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nly city-state with a hereditary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paniard Alfonso I of Aragon (1442-1458) established peace after a struggle fo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01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APAL ST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520" y="228600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pal St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ose capital was Rome, were nominally under the control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ly independent territories included thriving city-states of Bologna, Ferrara, and Ur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in Rome the church had to contend with powerful noble fami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495680" cy="398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895480" y="2514600"/>
            <a:ext cx="2438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1639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LO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7672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o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center of Renaissance culture, was one of the wealthiest cit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ly, a Republic, Florence was dominated by the principal banking family, th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09680" y="26668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3047760" cy="1965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6095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rence was built on money and the woo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MI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114800" cy="3063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4419720"/>
            <a:ext cx="8610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major city in Lombardo, was landlocked, thus the major economic focus was northward toward the Al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warlike of the city-states, Milan was run by a despotic family (Visco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198072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96160" y="0"/>
            <a:ext cx="2247840" cy="145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VEN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264200" cy="4496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n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ituated at the top of the Adriatic Sea, was the leading maritime power of the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position in relation to Constantinople gave Venice a great source of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public was rules by a hereditary elite – headed by an elec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chief magi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14240" y="2438280"/>
            <a:ext cx="2133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325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ealth of Venice was based on a thriving spice trade, the government was an oligarchy run by rich merch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3526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2:49:36Z</dcterms:created>
  <dc:creator>Susan Gregory</dc:creator>
  <dc:description/>
  <dc:language>en-US</dc:language>
  <cp:lastModifiedBy>Saddleback  High</cp:lastModifiedBy>
  <dcterms:modified xsi:type="dcterms:W3CDTF">2007-10-04T19:10:53Z</dcterms:modified>
  <cp:revision>50</cp:revision>
  <dc:subject/>
  <dc:title>RENAISSANCE</dc:title>
</cp:coreProperties>
</file>